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F12-08D5-4A7D-8921-EF917302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673-2365-4C81-AEC2-3B6EC62F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899-A794-4FD7-B8B2-060A2FD39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0F3-A7A6-430D-90F9-A132DCA7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F55-5390-49F8-8D4D-FBCFA9AF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F34-A5F7-4735-BFB2-B3D6B9D5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BAB-A21E-4AF7-9E8E-6C805128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269-362F-4571-9A96-A6FEF15F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E4F-7E05-4CF0-B9F9-C8493443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AEA-2BD9-415E-8D5E-19109A77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C40-A71B-4C88-98F3-202EA7F6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0AE-3C6D-4912-A361-4E5EE94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FD29-3806-4A30-AB54-959DE59B2C8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37" t="0" r="12545" b="57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7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ojet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tude d’une éolie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40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jet L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1284480" cy="73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107928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2562" r="0" b="16226"/>
          <a:stretch/>
        </p:blipFill>
        <p:spPr>
          <a:xfrm>
            <a:off x="3708360" y="1773360"/>
            <a:ext cx="5256360" cy="287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55760" y="692280"/>
            <a:ext cx="1943280" cy="1990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INE CINE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22301" b="35025"/>
          <a:stretch/>
        </p:blipFill>
        <p:spPr>
          <a:xfrm>
            <a:off x="2268360" y="1628640"/>
            <a:ext cx="6875640" cy="431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ELISATION 3D : SOLID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57360"/>
            <a:ext cx="9144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 DU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692280"/>
            <a:ext cx="687564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UA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énuries de pétrol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ût du carbura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échauffement climatiqu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l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éveloppement des énergies renouvelables et en particulier de la technologie éolie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vantage 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ource d’énergie inépuisable permettant la transformation de l’énergie mécanique en énergie électr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692280"/>
            <a:ext cx="68756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imensionnement de l’éolienne pa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’étude du beso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a définition de sa puiss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e calcul de sa t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Modélisation 3D de l’éolienne et en particulier de la partie transformation et transmission de puissance (Solid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UDE DU BES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692280"/>
            <a:ext cx="687564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llage de 300 habitants situé dans les Monts d’Arrée, lie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eu rentable pour être connecté au rés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nteux : temps de fonctionnement par an éle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écessité de défini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 consommation d’électricité par an et par habi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 vitesse moyenne du vent sur le lieu d’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 temps de fonctionnement sur un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 ENERGETIQUE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692280"/>
            <a:ext cx="687564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étermination de la consommation annuel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Nombre d’habitants : 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Consommation : 2 MWh/an/h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600 MWh/an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(quantité d’énergie à produire par l’éolien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Temps de fonctionnement :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2000h/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uissance de l’éolienne : 0,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284640"/>
            <a:ext cx="68756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Calcul de la puissance du v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Vitesse moyenne du vent :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7,5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Formu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uissance transmise à l’éolienne (Betz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UL ENERGETIQU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340000" y="836640"/>
            <a:ext cx="6624720" cy="2231640"/>
            <a:chOff x="2340000" y="836640"/>
            <a:chExt cx="6624720" cy="2231640"/>
          </a:xfrm>
        </p:grpSpPr>
        <p:sp>
          <p:nvSpPr>
            <p:cNvPr id="79" name=""/>
            <p:cNvSpPr/>
            <p:nvPr/>
          </p:nvSpPr>
          <p:spPr>
            <a:xfrm>
              <a:off x="7813080" y="1407240"/>
              <a:ext cx="10890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2340000" y="836640"/>
              <a:ext cx="6624720" cy="2231640"/>
              <a:chOff x="2340000" y="836640"/>
              <a:chExt cx="6624720" cy="2231640"/>
            </a:xfrm>
          </p:grpSpPr>
          <p:sp>
            <p:nvSpPr>
              <p:cNvPr id="81" name=""/>
              <p:cNvSpPr/>
              <p:nvPr/>
            </p:nvSpPr>
            <p:spPr>
              <a:xfrm>
                <a:off x="3058920" y="1131480"/>
                <a:ext cx="378360" cy="1936800"/>
              </a:xfrm>
              <a:custGeom>
                <a:avLst/>
                <a:gdLst/>
                <a:ahLst/>
                <a:rect l="l" t="t" r="r" b="b"/>
                <a:pathLst>
                  <a:path w="997" h="1833">
                    <a:moveTo>
                      <a:pt x="475" y="0"/>
                    </a:moveTo>
                    <a:cubicBezTo>
                      <a:pt x="352" y="0"/>
                      <a:pt x="0" y="352"/>
                      <a:pt x="76" y="570"/>
                    </a:cubicBezTo>
                    <a:cubicBezTo>
                      <a:pt x="152" y="788"/>
                      <a:pt x="865" y="1102"/>
                      <a:pt x="931" y="1311"/>
                    </a:cubicBezTo>
                    <a:cubicBezTo>
                      <a:pt x="997" y="1520"/>
                      <a:pt x="617" y="1815"/>
                      <a:pt x="475" y="1824"/>
                    </a:cubicBezTo>
                    <a:cubicBezTo>
                      <a:pt x="333" y="1833"/>
                      <a:pt x="19" y="1577"/>
                      <a:pt x="76" y="1368"/>
                    </a:cubicBezTo>
                    <a:cubicBezTo>
                      <a:pt x="133" y="1159"/>
                      <a:pt x="750" y="788"/>
                      <a:pt x="817" y="570"/>
                    </a:cubicBezTo>
                    <a:cubicBezTo>
                      <a:pt x="884" y="352"/>
                      <a:pt x="598" y="0"/>
                      <a:pt x="47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46480" y="2123640"/>
                <a:ext cx="205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16120" y="18320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Multipli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ateu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53840" y="2123640"/>
                <a:ext cx="182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989840" y="18194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Géné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rat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7824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1180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759480" y="168624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87280" y="164808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07760" y="245340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875720" y="245988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602080" y="13312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590560" y="1584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79400" y="18385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585160" y="207324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90560" y="23266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79400" y="256140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79400" y="2808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340000" y="836640"/>
                <a:ext cx="108900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vent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(v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268360" y="69228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éma de princ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4365720"/>
            <a:ext cx="331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vent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= 0,5.π.r</a:t>
            </a:r>
            <a:r>
              <a:rPr b="0" lang="fr-FR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.v</a:t>
            </a:r>
            <a:r>
              <a:rPr b="0" lang="fr-FR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.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5877000"/>
            <a:ext cx="43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éolienne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= (16/27).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vent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= P</a:t>
            </a:r>
            <a:r>
              <a:rPr b="0" lang="fr-FR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MENS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3284640"/>
            <a:ext cx="6480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issance à la sort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lcul du ray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4005360"/>
            <a:ext cx="2592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η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η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340000" y="836640"/>
            <a:ext cx="6624720" cy="2231640"/>
            <a:chOff x="2340000" y="836640"/>
            <a:chExt cx="6624720" cy="2231640"/>
          </a:xfrm>
        </p:grpSpPr>
        <p:sp>
          <p:nvSpPr>
            <p:cNvPr id="127" name=""/>
            <p:cNvSpPr/>
            <p:nvPr/>
          </p:nvSpPr>
          <p:spPr>
            <a:xfrm>
              <a:off x="7813080" y="1407240"/>
              <a:ext cx="108900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340000" y="836640"/>
              <a:ext cx="6624720" cy="2231640"/>
              <a:chOff x="2340000" y="836640"/>
              <a:chExt cx="6624720" cy="2231640"/>
            </a:xfrm>
          </p:grpSpPr>
          <p:sp>
            <p:nvSpPr>
              <p:cNvPr id="129" name=""/>
              <p:cNvSpPr/>
              <p:nvPr/>
            </p:nvSpPr>
            <p:spPr>
              <a:xfrm>
                <a:off x="3058920" y="1131480"/>
                <a:ext cx="378360" cy="1936800"/>
              </a:xfrm>
              <a:custGeom>
                <a:avLst/>
                <a:gdLst/>
                <a:ahLst/>
                <a:rect l="l" t="t" r="r" b="b"/>
                <a:pathLst>
                  <a:path w="997" h="1833">
                    <a:moveTo>
                      <a:pt x="475" y="0"/>
                    </a:moveTo>
                    <a:cubicBezTo>
                      <a:pt x="352" y="0"/>
                      <a:pt x="0" y="352"/>
                      <a:pt x="76" y="570"/>
                    </a:cubicBezTo>
                    <a:cubicBezTo>
                      <a:pt x="152" y="788"/>
                      <a:pt x="865" y="1102"/>
                      <a:pt x="931" y="1311"/>
                    </a:cubicBezTo>
                    <a:cubicBezTo>
                      <a:pt x="997" y="1520"/>
                      <a:pt x="617" y="1815"/>
                      <a:pt x="475" y="1824"/>
                    </a:cubicBezTo>
                    <a:cubicBezTo>
                      <a:pt x="333" y="1833"/>
                      <a:pt x="19" y="1577"/>
                      <a:pt x="76" y="1368"/>
                    </a:cubicBezTo>
                    <a:cubicBezTo>
                      <a:pt x="133" y="1159"/>
                      <a:pt x="750" y="788"/>
                      <a:pt x="817" y="570"/>
                    </a:cubicBezTo>
                    <a:cubicBezTo>
                      <a:pt x="884" y="352"/>
                      <a:pt x="598" y="0"/>
                      <a:pt x="475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46480" y="2123640"/>
                <a:ext cx="205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16120" y="18320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Multipli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cateu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53840" y="2123640"/>
                <a:ext cx="182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9840" y="1819440"/>
                <a:ext cx="843480" cy="57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Géné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ratr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7824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111800" y="2016000"/>
                <a:ext cx="720" cy="23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59480" y="168624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87280" y="164808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(ω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, 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07760" y="2453400"/>
                <a:ext cx="108864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75720" y="2459880"/>
                <a:ext cx="108900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η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02080" y="13312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90560" y="1584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79400" y="18385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85160" y="207324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90560" y="232668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79400" y="256140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79400" y="2808720"/>
                <a:ext cx="4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40000" y="836640"/>
                <a:ext cx="1089000" cy="3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Arial"/>
                  </a:rPr>
                  <a:t>vent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Arial"/>
                  </a:rPr>
                  <a:t> (v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8" name="" descr=""/>
          <p:cNvPicPr/>
          <p:nvPr/>
        </p:nvPicPr>
        <p:blipFill>
          <a:blip r:embed="rId1"/>
          <a:srcRect l="0" t="0" r="36495" b="76398"/>
          <a:stretch/>
        </p:blipFill>
        <p:spPr>
          <a:xfrm>
            <a:off x="3924360" y="5734080"/>
            <a:ext cx="3097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68360" y="0"/>
            <a:ext cx="687564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26836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68280"/>
            <a:ext cx="2484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du bes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haîne ciné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élisation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189000"/>
            <a:ext cx="68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98100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réquence de rotation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in épicycloïdal = Multiplicate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8360" y="18900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INE CINE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286000" y="2349360"/>
            <a:ext cx="6858000" cy="3527280"/>
            <a:chOff x="2286000" y="2349360"/>
            <a:chExt cx="6858000" cy="35272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0" t="5340" r="0" b="26085"/>
            <a:stretch/>
          </p:blipFill>
          <p:spPr>
            <a:xfrm>
              <a:off x="2286000" y="2349360"/>
              <a:ext cx="68580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646360" y="4221000"/>
              <a:ext cx="863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62360" y="4436640"/>
              <a:ext cx="863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58000" y="4221000"/>
              <a:ext cx="1152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2720" y="3573360"/>
              <a:ext cx="115236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3280" y="3573360"/>
              <a:ext cx="1152720" cy="5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47:49Z</dcterms:created>
  <dc:creator>CRI</dc:creator>
  <dc:description/>
  <dc:language>en-US</dc:language>
  <cp:lastModifiedBy> SCHNEIDER</cp:lastModifiedBy>
  <dcterms:modified xsi:type="dcterms:W3CDTF">2007-11-03T11:42:30Z</dcterms:modified>
  <cp:revision>30</cp:revision>
  <dc:subject/>
  <dc:title>Diapositive 1</dc:title>
</cp:coreProperties>
</file>